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C967-5017-4D2C-B0F3-D1C363E9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FD68-4759-41F5-B55C-3D2174E8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5D4-D78A-4AEE-9890-C2D607DB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BE7-61B7-4254-A9FC-C9387305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414-8FDA-4D95-AC50-25ECF9B7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5EE-C954-430B-9429-548C3440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BC0E-56C9-4F48-BD05-295387D5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ED6-ACF1-4DC9-B63E-F2E79983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0C8-AA51-4F9C-BCE8-2D0E586F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63A5-5404-4398-8CD1-64A9F5C8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3C7-3F41-4398-A535-A4333DC7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652E-FA3A-40B6-B615-C9A4E0C9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0A6F-4A56-4C44-A557-5C80089202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未命名"/>
          <p:cNvPicPr/>
          <p:nvPr/>
        </p:nvPicPr>
        <p:blipFill>
          <a:blip r:embed="rId1"/>
          <a:stretch/>
        </p:blipFill>
        <p:spPr>
          <a:xfrm>
            <a:off x="-27000" y="3645000"/>
            <a:ext cx="9144000" cy="2268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200541823235772043"/>
          <p:cNvPicPr/>
          <p:nvPr/>
        </p:nvPicPr>
        <p:blipFill>
          <a:blip r:embed="rId2"/>
          <a:stretch/>
        </p:blipFill>
        <p:spPr>
          <a:xfrm>
            <a:off x="5292720" y="-100080"/>
            <a:ext cx="4176720" cy="3600360"/>
          </a:xfrm>
          <a:prstGeom prst="rect">
            <a:avLst/>
          </a:prstGeom>
          <a:ln w="0">
            <a:noFill/>
          </a:ln>
        </p:spPr>
      </p:pic>
      <p:sp>
        <p:nvSpPr>
          <p:cNvPr id="43" name="WordArt 9"/>
          <p:cNvSpPr txBox="1"/>
          <p:nvPr/>
        </p:nvSpPr>
        <p:spPr>
          <a:xfrm>
            <a:off x="611280" y="3716280"/>
            <a:ext cx="1528560" cy="13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矛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WordArt 10"/>
          <p:cNvSpPr txBox="1"/>
          <p:nvPr/>
        </p:nvSpPr>
        <p:spPr>
          <a:xfrm>
            <a:off x="4067280" y="907920"/>
            <a:ext cx="144144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pic_228399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250920" y="6922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矛和盾怎么结合的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995640" y="4591080"/>
            <a:ext cx="51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把盾做成铁屋子，在铁屋子上开一个小洞，从洞里伸出进攻的“矛”（枪、炮），再给铁屋子装上轮子，安上履带，让它会动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pic_228399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06200" y="692280"/>
            <a:ext cx="2521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结果怎样？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Img225822885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481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3708360" y="765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发明家发明了坦克；坦克在战场上大显神威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516480" y="764640"/>
            <a:ext cx="562752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坦克：英文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TANK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的译音，旧译为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战车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具有强大直射火力、高度越野机动力和坚强装甲防护力的履带式装甲战斗车辆。由武器系统、推进系统、防护系统、通信设备以及其他特种设备和装置组成。乘坐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人，分别担负指挥、射击、驾驶等任务。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916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年在第一次世界大战中，英国最早使用坦克参加松姆河战役。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世纪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年代以前，坦克通常分为轻型、中型和重型。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年代以来，多数国家将坦克按用途分为主战坦克和特种坦克。坦克主要用于地面作战，用以对坦克及其他装甲车辆作战，也可用于摧毁野战工事，消灭有生力量。但地形、天气对它的行动有一定限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20059160265117"/>
          <p:cNvPicPr/>
          <p:nvPr/>
        </p:nvPicPr>
        <p:blipFill>
          <a:blip r:embed="rId1"/>
          <a:stretch/>
        </p:blipFill>
        <p:spPr>
          <a:xfrm>
            <a:off x="0" y="476280"/>
            <a:ext cx="38005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4427640" y="162864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这个故事告诉了我们一个什么道理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635280" y="83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谁善于把别人的长处集于一身，谁就会是胜利者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851280" y="3573360"/>
            <a:ext cx="403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你还能用别的例子来说明这句话的意思吗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2" dur="1" fill="hold"/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419640" y="836640"/>
            <a:ext cx="5473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Arial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交流故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拓展延伸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500720" y="2852640"/>
            <a:ext cx="3960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交流课前搜集到的发明家的故事。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200581215163352501"/>
          <p:cNvPicPr/>
          <p:nvPr/>
        </p:nvPicPr>
        <p:blipFill>
          <a:blip r:embed="rId1"/>
          <a:stretch/>
        </p:blipFill>
        <p:spPr>
          <a:xfrm>
            <a:off x="0" y="476280"/>
            <a:ext cx="4427640" cy="6381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200501220000000139"/>
          <p:cNvPicPr/>
          <p:nvPr/>
        </p:nvPicPr>
        <p:blipFill>
          <a:blip r:embed="rId2"/>
          <a:stretch/>
        </p:blipFill>
        <p:spPr>
          <a:xfrm>
            <a:off x="4427640" y="476280"/>
            <a:ext cx="4716360" cy="6381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0" y="4653000"/>
            <a:ext cx="50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铅笔和橡皮原来是分开的，一天美国人威廉到朋友家玩，看到他的朋友正在用铅笔画画，铅笔的一端绑着一块橡皮，于是得到了启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33023"/>
          <p:cNvPicPr/>
          <p:nvPr/>
        </p:nvPicPr>
        <p:blipFill>
          <a:blip r:embed="rId3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2340000" y="3141720"/>
            <a:ext cx="5111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黑体"/>
              </a:rPr>
              <a:t>产生了“要是有一种带橡皮的铅笔，人们使用起来不是就方便了吗？”的想法，通过努力缍发明了橡皮头铅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200510140000000095"/>
          <p:cNvPicPr/>
          <p:nvPr/>
        </p:nvPicPr>
        <p:blipFill>
          <a:blip r:embed="rId4"/>
          <a:stretch/>
        </p:blipFill>
        <p:spPr>
          <a:xfrm>
            <a:off x="0" y="485640"/>
            <a:ext cx="9144000" cy="6372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1"/>
          <p:cNvSpPr/>
          <p:nvPr/>
        </p:nvSpPr>
        <p:spPr>
          <a:xfrm>
            <a:off x="6804000" y="3213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蘸水笔与墨水瓶的合并，出现了书写方便的自来水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0040721174127893"/>
          <p:cNvPicPr/>
          <p:nvPr/>
        </p:nvPicPr>
        <p:blipFill>
          <a:blip r:embed="rId1"/>
          <a:stretch/>
        </p:blipFill>
        <p:spPr>
          <a:xfrm>
            <a:off x="0" y="476280"/>
            <a:ext cx="3889440" cy="6408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4716360" y="1989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矛：古代一种兵器。长形，尖头，安上木质的长柄，作战时用于直刺。矛在商周时用青铜制成，汉代多用铁制成的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00541823235772043"/>
          <p:cNvPicPr/>
          <p:nvPr/>
        </p:nvPicPr>
        <p:blipFill>
          <a:blip r:embed="rId1"/>
          <a:stretch/>
        </p:blipFill>
        <p:spPr>
          <a:xfrm>
            <a:off x="0" y="692280"/>
            <a:ext cx="4859280" cy="6165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5219640" y="198900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盾：盾牌，古代作战时挡御刀箭等的武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200432804610570"/>
          <p:cNvPicPr/>
          <p:nvPr/>
        </p:nvPicPr>
        <p:blipFill>
          <a:blip r:embed="rId1"/>
          <a:stretch/>
        </p:blipFill>
        <p:spPr>
          <a:xfrm>
            <a:off x="0" y="496800"/>
            <a:ext cx="9144000" cy="6388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971640" y="620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矛和盾是两种相对峙的兵器，如果把它们集合在一起，结果会怎么样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1042920" y="2637000"/>
            <a:ext cx="5834160" cy="14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矛和盾的集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492360" y="1773360"/>
            <a:ext cx="590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初读课文，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        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读准字音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635280" y="692280"/>
            <a:ext cx="28195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会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492360" y="1700280"/>
            <a:ext cx="504036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矛      盾    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般      蜗    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924360" y="170028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研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课文讲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pic_228399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80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684360" y="40464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发明家手持矛和盾，在与朋友对打比赛时，由矛和盾的长处想到了发明坦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476360" y="581832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谁善于把别人的长处集于一身，谁就会是胜利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3780000" y="1484280"/>
            <a:ext cx="504720" cy="4105440"/>
          </a:xfrm>
          <a:prstGeom prst="downArrow">
            <a:avLst>
              <a:gd name="adj1" fmla="val 50000"/>
              <a:gd name="adj2" fmla="val 203352"/>
            </a:avLst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419640" y="2133720"/>
            <a:ext cx="51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发明家是怎样把矛和盾的优点集合在一起发明坦克的？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②“谁善于把别人的长处集于一身，谁就会是胜利者”这句话给你什么启发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492360" y="1125360"/>
            <a:ext cx="41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小组合作学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995640" y="177336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讨论、交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pic_228399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79280" y="836640"/>
            <a:ext cx="48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矛和盾为 什么要结合呢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284720" y="477216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发明家和对手比赛，难以招架，于是突发奇想，想到了矛和盾结合起来。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Windows 用户</cp:lastModifiedBy>
  <dcterms:modified xsi:type="dcterms:W3CDTF">2018-01-10T02:28:04Z</dcterms:modified>
  <cp:revision>19</cp:revision>
  <dc:subject/>
  <dc:title>幻灯片 1</dc:title>
</cp:coreProperties>
</file>